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1DDB-6E81-453F-B695-001B7008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7DC-4D16-48ED-B5FC-B152004E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908F-67DD-40ED-8DA1-77E5F07F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C601-2C97-407D-BD40-05E9F730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67D-E3DE-4236-851E-4FE26C58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0D7D-7717-4830-BFCB-781D032D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ECA6-C82D-401C-84D7-4C7E8DAA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7BB-FF80-4A75-B848-F0E32351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985D-F627-4CC7-AFC4-C185D3C6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4A0-7AEB-4C3D-83FB-DF6F515E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90C-1895-42B2-8A41-8F70E12D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216-6D70-43C8-A4BE-8830CE24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7B7F-2C78-4813-8896-389C582F9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ckbar"/>
              </a:rPr>
              <a:t>Dear Mrs. LaR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obe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miscon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melodra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neg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des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persis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ckbar"/>
              </a:rPr>
              <a:t>Angel Child, Dragon Chil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gleamed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mumbl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ender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ilt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yea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ope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ckbar"/>
              </a:rPr>
              <a:t>Three Little Wolves and the Big Bad Pi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row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remb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xtreme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genero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ec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ersev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ckbar"/>
              </a:rPr>
              <a:t>Wolf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cent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a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merg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f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ndustri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chi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Montezuma’s Reven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v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mis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mesmeriz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ax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gr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rustr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Grandpa’s Tee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mpl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usp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mys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le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spir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The Patchwork Quil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masterpie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rea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nxi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u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mpa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nurtu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The Cow Who Wouldn’t Come D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tern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t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gno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g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nnov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iv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Porkenste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isbeli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ncred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re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rea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los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sol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The Princess and the Pizz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graci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um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ragr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mut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r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ract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Just Plain Fan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gossip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hun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e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stant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xotic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impl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ckbar"/>
              </a:rPr>
              <a:t>A Bad Case of Strip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contag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dis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reme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van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al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perple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Koko’s Kit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ggress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ist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ccustom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ff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s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ap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The Great Kapok Tr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nces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lith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i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lull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efense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nten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ckbar"/>
              </a:rPr>
              <a:t>Picnic of Mudsock Meadow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ee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bl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leg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mort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rev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mischiev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ckbar"/>
              </a:rPr>
              <a:t>Picnic of Mudsock Mead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ee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bl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leg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mort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rev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mischiev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ckbar"/>
              </a:rPr>
              <a:t>Chato’s Kitche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Vibrated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assu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wered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uppres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umbfounded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ismay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ckbar"/>
              </a:rPr>
              <a:t>Everybody Cooks Ric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boarder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mm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gulped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grumb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ppetizing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       diver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ckbar"/>
              </a:rPr>
              <a:t>Eat Your Vegetabl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locat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eroci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queasy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lumb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llaboration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teadf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ckbar"/>
              </a:rPr>
              <a:t>The Rough Face Gir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harred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we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aughtily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rev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everishly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ui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ckbar"/>
              </a:rPr>
              <a:t>The Three Ques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dvanc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ren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njur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uncert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nsec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ri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1:14:31Z</dcterms:created>
  <dc:creator>Abby Owens</dc:creator>
  <dc:description/>
  <dc:language>en-US</dc:language>
  <cp:lastModifiedBy>Abby Owens</cp:lastModifiedBy>
  <dcterms:modified xsi:type="dcterms:W3CDTF">2010-05-28T01:52:23Z</dcterms:modified>
  <cp:revision>30</cp:revision>
  <dc:subject/>
  <dc:title>PowerPoint Presentation</dc:title>
</cp:coreProperties>
</file>